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82F-FD63-4EF5-8E59-3A80C50F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8FA-7582-416E-9224-A22BEDB5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05D-1C1A-4FE8-9472-5945F615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B5A-0AA7-4580-A682-AF63753F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B23B-CF7B-4C49-A68D-C30EC98B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9120-1C57-4789-A60C-102D978D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CF1D-B5DA-4234-8213-1C7C03C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F040-A4B9-436A-A970-26961448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DD45-0189-4E4A-87F0-EE40F44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825D-8A34-4DB6-9677-873555E2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34B2-39F7-475F-A9F0-5D84A8C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21E-7109-4CB2-9AAF-211D9A45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AF91-947B-4344-AB8B-7FAB2E9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C536-75CE-45B2-B86C-0CAE899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C36-5905-4C55-8FF9-EE791AD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7EB2-A38F-48B5-86C9-A63548E0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1396-8BBA-4612-B1C4-A5749E7A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B1E-3B27-415C-A721-0D6A3FC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6A1-3E7E-4E41-9425-1D6F123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84D-1703-419D-99E3-DC0DD8D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3B0-B0D0-4C76-BFBB-AF9CDDA5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8BD-23F8-42FC-A261-0765B31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23B-4F8C-476D-A03F-3586F41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1FB-D3AB-4EED-922E-5BCBA30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5514-FE70-4A9B-833C-599691D9AD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057-849D-4DCD-9A33-22155BE1F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1471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Развитие высокотехнологичной медицинской помощи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 Детской республиканской клинической больнице МЗ Р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02920" y="4653000"/>
            <a:ext cx="70167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Е. В. Карпухин – главный вр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836-1BDC-4582-8C00-27678A385D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8000" y="2557440"/>
          <a:ext cx="903600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557440"/>
                    <a:ext cx="903600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0"/>
            <a:ext cx="9013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Динамика младенческой смертности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от врожденных  пороков  сердца в Республике Татарстан за  1997 – 2006 гг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(на 1000 родившихся живыми)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2421000"/>
            <a:ext cx="136872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3862440"/>
            <a:ext cx="136836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2852640"/>
            <a:ext cx="3024360" cy="10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0720" y="2637000"/>
            <a:ext cx="25192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снижение в 3 р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377-25DF-4A8B-B311-1A80A65A12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В 2007 году ДРКБ МЗ РТ получила Федеральный государственный заказ на оказание ВМП (200 операций) по кардиохирургии и нейрохирургии для близлежащих районов (Республики Чувашия и Марий-Эл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637920" algn="just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бъем государственного заказа выполн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637920" algn="just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своено 17,5 млн. федеральных средств из 20 млн. запланиров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007-8DBE-4F57-AECF-99340D464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В   нейрохирургическом   отделении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 доля   высокотехнологичных   операций составляет   70%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84280"/>
            <a:ext cx="835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жегодно выполняетс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до 150 высокотехнологичных операций детям, начиная с периода новорожд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шунтирующие операци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ри гидроцефалии (водянке головного мозг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перативные вмешательства с использованием микрохирургической техни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ри опухолях, врожденных пороках и сложных ЧМ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ндоскопические метод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EDC-0893-46FD-8053-51EA34854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EEA-7DAD-4750-9F72-25F77BFF7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936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окотехнологичные  виды  медицинской  помощи  развиваются  в  течение  более  15  лет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правления: кардиохирургия, нейрохирургия, онкогематология, реконструктивно-пластические операции в урологии, офтальмологии и челюстно-лицевой хирургии и др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я высокотехнологичных видов медицинской помощ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лечебных и диагностических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7,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870-EA63-4E5C-B29D-86F9B9313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В 2006 году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на модернизаци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ДРКБ Правительством Республики Татарстан было выделено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409 млн. 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CB4-1254-4E67-9985-5DCF4111AC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280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Закуплено  1017  единиц  медицинского  оборудования  и  аппа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Модернизировано  тольк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5  операционных  из  14-ти ;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38% реанимационных площадей;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1  кардиохирургическое  отделение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из  22  лечеб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923-64DA-4C1D-B4C3-47FF5722A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Количество операций на сердце и сосудах, выполненных в отделении кардиохирургии за 1996-2006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080" y="1712880"/>
          <a:ext cx="905832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1712880"/>
                    <a:ext cx="905832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00000" y="4869000"/>
            <a:ext cx="720720" cy="7189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2205000"/>
            <a:ext cx="914400" cy="9144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0200" y="5446800"/>
            <a:ext cx="720720" cy="7189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10320" y="4581360"/>
            <a:ext cx="914400" cy="9144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3C1-3166-4CE0-8A24-FCB0E97DA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9708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еречень оперативных вмешательств, которые мы делаем,  не отличается от тех, которые проводятся в Научном Центре сердечно-сосудистой хирургии   имени   А.Н.  Бакулева в Моск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E5B-33DB-42E2-ACB7-D91F64A96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6156360"/>
            <a:ext cx="8569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80"/>
                </a:solidFill>
                <a:latin typeface="Arial"/>
              </a:rPr>
              <a:t>В  2007  году  каждому   пятому  ребенку   коррекция  врожденного  порока  сердца   проведена  эндоваскулярно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EBF-F0F4-4D7E-A9CA-1848269650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02320" y="6156360"/>
            <a:ext cx="6759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Tahoma"/>
              </a:rPr>
              <a:t>Пациенты на вторые сутки пос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Tahoma"/>
              </a:rPr>
              <a:t>малоинвазивного оперативного вмеш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468-006C-45D7-8CDA-FF073D6DC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Результаты  работы кардиохирургического  отделения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квидирована очередность на хирургическое лечение пороков сердц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пала необходимость направлять детей на операции в Федеральные клин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293-F984-4B82-81F4-1E2F7D3B8E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8:10:34Z</dcterms:created>
  <dc:creator>Подростковая служба</dc:creator>
  <dc:description/>
  <dc:language>en-US</dc:language>
  <cp:lastModifiedBy>ASU</cp:lastModifiedBy>
  <dcterms:modified xsi:type="dcterms:W3CDTF">2007-11-27T06:20:33Z</dcterms:modified>
  <cp:revision>66</cp:revision>
  <dc:subject/>
  <dc:title>Высокотехнологичные виды медицинской помощи детям: региональный взгляд на проблемы</dc:title>
</cp:coreProperties>
</file>